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TYPE.WAV" ContentType="audio/x-wav"/>
  <Override PartName="/ppt/media/LASER.WAV" ContentType="audio/x-wav"/>
  <Override PartName="/ppt/media/CAMERA.WAV" ContentType="audio/x-wav"/>
  <Override PartName="/ppt/media/image1.pct" ContentType="image/x-pic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B2BD4-8154-4482-B0EA-34EC4EEFFE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three ten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two vo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DEB0-CAED-415F-A3B3-4AA591A30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9300-D3DC-4AEB-BEE8-DCC6047B9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4051-AD0A-45C2-8BEA-BC7C087FC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634C-3A97-461B-B741-CBE89C1C9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F7665-B788-4A55-97CD-6EBEB35DA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A6BAE-0457-4702-86C8-E34942E1D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7657C-9812-4662-8692-5D05D3CD8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75E72-E05F-4D90-8265-2DF70BACE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ACCF7-DC80-4483-B512-37C88532B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D7CB3-FA6F-43EB-80AE-A53FFDC08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095EC-EC8B-406E-B9C0-0035F12B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AD55-6F46-40E8-9C4A-FCF77DA5F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19437-7992-4342-8C07-1C514F85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45B62-B5C8-4086-9AEA-5D2CBEF0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E3D27-261C-433C-9C20-1C3B65B01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43247-6AC0-4C74-8737-AEAE2C921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D1CBD-76D2-4252-83A8-1B338FB93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3AE3-CFE9-4BED-A5E0-BE5D9802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2AC5-743D-46F0-BDD0-46040D08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EBEF-F9F4-4A95-A7C8-E53D77EE0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BE3D-065C-4FF6-B71F-49E9167F1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64E0-9048-4C16-B9C2-F5AA5676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F750-C1BE-4E8E-84E5-46BF1F8E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6E39-23EA-41DB-996A-EA4B8D28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audio" Target="../media/TYPE.WAV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audio" Target="../media/TYPE.WAV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tin 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apter 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5000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562360" y="464040"/>
            <a:ext cx="289548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dicate the time of the action in relation to the adjoining ver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pres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rticiple indicates the action is going on at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ame tim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s the verb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futu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rticiple indicates the action will happe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ft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verb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rticiple indicates that the action happene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efo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verb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29000" y="53341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tting on the couch, the boy eat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dens in lecto, puer edit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762120" y="609480"/>
            <a:ext cx="457200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Participle Uses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40" name=""/>
          <p:cNvSpPr/>
          <p:nvPr/>
        </p:nvSpPr>
        <p:spPr>
          <a:xfrm>
            <a:off x="749160" y="5867280"/>
            <a:ext cx="80949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boy is sitting on the couch at the same time that he is eat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2" presetSubtype="3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75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75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" presetSubtype="3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75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75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" presetSubtype="3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75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75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" presetSubtype="3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75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75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562360" y="464040"/>
            <a:ext cx="289548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ust like any other adjective, it describes a noun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343400" y="29718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laughtered ambassad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2971800"/>
            <a:ext cx="3200400" cy="45720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gati necat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62120" y="609480"/>
            <a:ext cx="457200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Participle Uses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46" name=""/>
          <p:cNvSpPr/>
          <p:nvPr/>
        </p:nvSpPr>
        <p:spPr>
          <a:xfrm>
            <a:off x="1724400" y="3873600"/>
            <a:ext cx="23295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sto MT"/>
              </a:rPr>
              <a:t>violati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alisto MT"/>
              </a:rPr>
              <a:t>hospi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359240" y="3879720"/>
            <a:ext cx="23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violated</a:t>
            </a:r>
            <a:r>
              <a:rPr b="0" lang="en-US" sz="2400" spc="-1" strike="noStrike">
                <a:solidFill>
                  <a:srgbClr val="ffffff"/>
                </a:solidFill>
                <a:latin typeface="Westminster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gue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d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2" presetSubtype="3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75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75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1532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Univers (W1)"/>
              </a:rPr>
              <a:t>Practice declining and translating…..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nd pp - re + ns, nti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*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85800" y="6171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* Remember that for 3rd-io and 4th conjugation verbs, you must drop the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entir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infinitive ending, then add -</a:t>
            </a:r>
            <a:r>
              <a:rPr b="1" lang="en-US" sz="1600" spc="-1" strike="noStrike">
                <a:solidFill>
                  <a:srgbClr val="00ff99"/>
                </a:solidFill>
                <a:latin typeface="Arial"/>
              </a:rPr>
              <a:t>i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before adding the adjective ending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74880" y="1717560"/>
            <a:ext cx="702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badi MT Condensed Light"/>
              </a:rPr>
              <a:t>Munio, munire, munivi, munit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74880" y="316548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nie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952520" y="32004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ni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89640" y="358128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nient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952160" y="3505320"/>
            <a:ext cx="15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nient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89640" y="396252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nien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52160" y="388620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nientib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9072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89280" y="4343400"/>
            <a:ext cx="155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nien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952520" y="426708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ni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90000" y="472428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ni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952160" y="464832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nientib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80440" y="5268960"/>
            <a:ext cx="383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Abadi MT Condensed Light"/>
              </a:rPr>
              <a:t>“</a:t>
            </a:r>
            <a:r>
              <a:rPr b="1" lang="en-US" sz="2800" spc="-1" strike="noStrike">
                <a:solidFill>
                  <a:srgbClr val="ff7c80"/>
                </a:solidFill>
                <a:latin typeface="Abadi MT Condensed Light"/>
              </a:rPr>
              <a:t>building, fortifying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371600" y="380880"/>
            <a:ext cx="43434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b3b3b"/>
                    </a:gs>
                    <a:gs pos="100000">
                      <a:srgbClr val="808080"/>
                    </a:gs>
                  </a:gsLst>
                  <a:lin ang="13500000"/>
                </a:gradFill>
                <a:effectLst>
                  <a:outerShdw dist="40186" dir="1096358" blurRad="0" rotWithShape="0">
                    <a:srgbClr val="808080"/>
                  </a:outerShdw>
                </a:effectLst>
                <a:latin typeface="Antique Olive (W1)"/>
              </a:rPr>
              <a:t>Present Active</a:t>
            </a:r>
            <a:endParaRPr b="0" lang="en-US" sz="2400" spc="1" strike="noStrike">
              <a:ln cap="sq"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b3b3b"/>
                  </a:gs>
                  <a:gs pos="100000">
                    <a:srgbClr val="808080"/>
                  </a:gs>
                </a:gsLst>
                <a:lin ang="13500000"/>
              </a:gradFill>
              <a:effectLst>
                <a:outerShdw dist="40186" dir="1096358" blurRad="0" rotWithShape="0">
                  <a:srgbClr val="808080"/>
                </a:outerShdw>
              </a:effectLst>
              <a:latin typeface="Antique Olive (W1)"/>
              <a:ea typeface="Antique Olive (W1)"/>
            </a:endParaRPr>
          </a:p>
        </p:txBody>
      </p:sp>
    </p:spTree>
  </p:cSld>
  <p:transition>
    <p:dissolve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75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75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75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75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75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75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75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75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75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75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75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75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75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75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75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75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75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75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75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1532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Univers (W1)"/>
              </a:rPr>
              <a:t>Practice declining and translating…..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th p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1752480"/>
            <a:ext cx="702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badi MT Condensed Light"/>
              </a:rPr>
              <a:t>Munio, munire, munivi, munit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73800" y="3165480"/>
            <a:ext cx="19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nitus, a, 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951440" y="320040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niti, ae,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88560" y="3581280"/>
            <a:ext cx="164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niti, ae, 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50000" y="3505320"/>
            <a:ext cx="31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nitorum, arum, or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90000" y="396252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nito, ae, 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1440" y="3886200"/>
            <a:ext cx="181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nitis, is, 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9072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88560" y="4343400"/>
            <a:ext cx="23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nitum, am, 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952520" y="4267080"/>
            <a:ext cx="186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nitos, as,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360" y="472428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nito, a, 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951440" y="4648320"/>
            <a:ext cx="181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nitis, is, 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9320" y="5268960"/>
            <a:ext cx="75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Abadi MT Condensed Light"/>
              </a:rPr>
              <a:t>“</a:t>
            </a:r>
            <a:r>
              <a:rPr b="1" lang="en-US" sz="2800" spc="-1" strike="noStrike">
                <a:solidFill>
                  <a:srgbClr val="ff7c80"/>
                </a:solidFill>
                <a:latin typeface="Abadi MT Condensed Light"/>
              </a:rPr>
              <a:t>having been built, having been fortified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371600" y="609480"/>
            <a:ext cx="43434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33"/>
                    </a:gs>
                    <a:gs pos="100000">
                      <a:srgbClr val="ff66cc"/>
                    </a:gs>
                  </a:gsLst>
                  <a:lin ang="13500000"/>
                </a:gradFill>
                <a:effectLst>
                  <a:outerShdw dist="40186" dir="1096358" blurRad="0" rotWithShape="0">
                    <a:srgbClr val="808080"/>
                  </a:outerShdw>
                </a:effectLst>
                <a:latin typeface="Antique Olive (W1)"/>
              </a:rPr>
              <a:t>Perfect Passive</a:t>
            </a:r>
            <a:endParaRPr b="0" lang="en-US" sz="2400" spc="1" strike="noStrike">
              <a:ln cap="sq"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0033"/>
                  </a:gs>
                  <a:gs pos="100000">
                    <a:srgbClr val="ff66cc"/>
                  </a:gs>
                </a:gsLst>
                <a:lin ang="13500000"/>
              </a:gradFill>
              <a:effectLst>
                <a:outerShdw dist="40186" dir="1096358" blurRad="0" rotWithShape="0">
                  <a:srgbClr val="808080"/>
                </a:outerShdw>
              </a:effectLst>
              <a:latin typeface="Antique Olive (W1)"/>
              <a:ea typeface="Antique Olive (W1)"/>
            </a:endParaRPr>
          </a:p>
        </p:txBody>
      </p:sp>
    </p:spTree>
  </p:cSld>
  <p:transition spd="slow">
    <p:pull dir="l"/>
  </p:transition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500"/>
                            </p:stCondLst>
                            <p:childTnLst>
                              <p:par>
                                <p:cTn id="55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68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75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75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75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75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75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75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75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75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75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75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75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75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75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75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75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75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75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75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75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75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1532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Univers (W1)"/>
              </a:rPr>
              <a:t>Practice declining and translating…..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th pp - us + ur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14400" y="1752480"/>
            <a:ext cx="702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badi MT Condensed Light"/>
              </a:rPr>
              <a:t>Munio, munire, munivi, munit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73800" y="316548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niturus, a, 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951080" y="3200400"/>
            <a:ext cx="19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nituri, ae,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88560" y="3581280"/>
            <a:ext cx="189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nituri, ae, 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950000" y="3505320"/>
            <a:ext cx="337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niturorum, arum, or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89640" y="3962520"/>
            <a:ext cx="20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nituro, ae, 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951080" y="3886200"/>
            <a:ext cx="20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nituris, is, 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88200" y="4343400"/>
            <a:ext cx="260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niturum, am, 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52160" y="4267080"/>
            <a:ext cx="21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nituros, as,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90000" y="4724280"/>
            <a:ext cx="18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nituro, a, 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951080" y="4648320"/>
            <a:ext cx="20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nituris, is, 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66880" y="5268960"/>
            <a:ext cx="591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Abadi MT Condensed Light"/>
              </a:rPr>
              <a:t>“</a:t>
            </a:r>
            <a:r>
              <a:rPr b="1" lang="en-US" sz="2800" spc="-1" strike="noStrike">
                <a:solidFill>
                  <a:srgbClr val="ff7c80"/>
                </a:solidFill>
                <a:latin typeface="Abadi MT Condensed Light"/>
              </a:rPr>
              <a:t>about to build, about to fortify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371600" y="609480"/>
            <a:ext cx="43434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8b049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/>
                  </a:outerShdw>
                </a:effectLst>
                <a:latin typeface="AvantGarde"/>
              </a:rPr>
              <a:t>Future Active</a:t>
            </a:r>
            <a:endParaRPr b="0" lang="en-US" sz="2400" spc="1" strike="noStrike">
              <a:ln cap="sq"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8b049"/>
                  </a:gs>
                </a:gsLst>
                <a:lin ang="5400000"/>
              </a:gradFill>
              <a:effectLst>
                <a:outerShdw dist="40186" dir="1096358" blurRad="0" rotWithShape="0">
                  <a:srgbClr val="808080"/>
                </a:outerShdw>
              </a:effectLst>
              <a:latin typeface="AvantGarde"/>
              <a:ea typeface="AvantGarde"/>
            </a:endParaRPr>
          </a:p>
        </p:txBody>
      </p:sp>
    </p:spTree>
  </p:cSld>
  <p:transition spd="slow">
    <p:pull dir="r"/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0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55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75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75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75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75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75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75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75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75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75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75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75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75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75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75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75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75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75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75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75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75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75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ntique Olv (W1)"/>
              </a:rPr>
              <a:t>More on Future Active Participles…..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metimes they are best translated as relative (dependent) clauses……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1840" y="3319560"/>
            <a:ext cx="848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Hannibal proelium cum Romanis </a:t>
            </a:r>
            <a:r>
              <a:rPr b="0" lang="en-US" sz="2400" spc="-1" strike="noStrike">
                <a:solidFill>
                  <a:srgbClr val="ff3300"/>
                </a:solidFill>
                <a:latin typeface="Calisto MT"/>
              </a:rPr>
              <a:t>commissurus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 de mo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in Italiam veni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01520" y="4255920"/>
            <a:ext cx="52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Hannibal, about to begin battle, …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7315200" y="4267080"/>
            <a:ext cx="49536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OR</a:t>
            </a:r>
            <a:endParaRPr b="0" lang="en-US" sz="24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2" name=""/>
          <p:cNvSpPr/>
          <p:nvPr/>
        </p:nvSpPr>
        <p:spPr>
          <a:xfrm>
            <a:off x="1899000" y="4876920"/>
            <a:ext cx="65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Hannibal, who was going to begin battle, …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500"/>
                            </p:stCondLst>
                            <p:childTnLst>
                              <p:par>
                                <p:cTn id="7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1500"/>
                            </p:stCondLst>
                            <p:childTnLst>
                              <p:par>
                                <p:cTn id="7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1532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Univers (W1)"/>
              </a:rPr>
              <a:t>Practice declining and translating…..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nd pp - re + ndu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*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14400" y="1752480"/>
            <a:ext cx="702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badi MT Condensed Light"/>
              </a:rPr>
              <a:t>Munio, munire, munivi, munit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74160" y="3165480"/>
            <a:ext cx="23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niendus, a, 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951440" y="3200400"/>
            <a:ext cx="204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niendi, ae,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88920" y="3581280"/>
            <a:ext cx="19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niendi, ae, 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950360" y="3505320"/>
            <a:ext cx="34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niendorum, arum, or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90360" y="396252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niendo, ae, 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51800" y="388620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niendis, is, 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9072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88560" y="4343400"/>
            <a:ext cx="27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niendum, am, 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952520" y="4267080"/>
            <a:ext cx="22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niendos, as,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90360" y="472428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niendo, a, 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51800" y="464832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niendis, is, 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009080" y="5105520"/>
            <a:ext cx="604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33"/>
                </a:solidFill>
                <a:latin typeface="Abadi MT Condensed Light"/>
              </a:rPr>
              <a:t>“</a:t>
            </a:r>
            <a:r>
              <a:rPr b="1" lang="en-US" sz="2800" spc="-1" strike="noStrike">
                <a:solidFill>
                  <a:srgbClr val="666633"/>
                </a:solidFill>
                <a:latin typeface="Abadi MT Condensed Light"/>
              </a:rPr>
              <a:t>must be built, must be fortified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371600" y="609480"/>
            <a:ext cx="43434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/>
                  </a:outerShdw>
                </a:effectLst>
                <a:latin typeface="Comic Sans MS"/>
              </a:rPr>
              <a:t>Future Passive</a:t>
            </a:r>
            <a:endParaRPr b="0" lang="en-US" sz="2400" spc="1" strike="noStrike">
              <a:ln cap="sq"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40186" dir="1096358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19" name=""/>
          <p:cNvSpPr/>
          <p:nvPr/>
        </p:nvSpPr>
        <p:spPr>
          <a:xfrm>
            <a:off x="1050840" y="5867280"/>
            <a:ext cx="6492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Tahoma"/>
              </a:rPr>
              <a:t>* again, remember that with 3rd-io and 4th conjugation verbs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Tahoma"/>
              </a:rPr>
              <a:t>you need to drop the </a:t>
            </a:r>
            <a:r>
              <a:rPr b="1" i="1" lang="en-US" sz="1600" spc="-1" strike="noStrike">
                <a:solidFill>
                  <a:srgbClr val="00ffcc"/>
                </a:solidFill>
                <a:latin typeface="Tahoma"/>
              </a:rPr>
              <a:t>entire</a:t>
            </a:r>
            <a:r>
              <a:rPr b="0" lang="en-US" sz="1600" spc="-1" strike="noStrike">
                <a:solidFill>
                  <a:srgbClr val="00ffcc"/>
                </a:solidFill>
                <a:latin typeface="Tahoma"/>
              </a:rPr>
              <a:t> infinitive ending, add -</a:t>
            </a: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ie</a:t>
            </a:r>
            <a:r>
              <a:rPr b="0" lang="en-US" sz="1600" spc="-1" strike="noStrike">
                <a:solidFill>
                  <a:srgbClr val="00ffcc"/>
                </a:solidFill>
                <a:latin typeface="Tahoma"/>
              </a:rPr>
              <a:t>-, then ad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Tahoma"/>
              </a:rPr>
              <a:t>the adjective end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"/>
  </p:transition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0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500"/>
                            </p:stCondLst>
                            <p:childTnLst>
                              <p:par>
                                <p:cTn id="76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7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75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75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75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75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75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75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75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75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75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75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75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75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75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75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75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75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75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75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75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75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75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5" dur="75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 rot="5400000">
            <a:off x="-1788480" y="2626560"/>
            <a:ext cx="5486400" cy="1299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Review</a:t>
            </a:r>
            <a:endParaRPr b="0" lang="en-US" sz="5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1" name=""/>
          <p:cNvSpPr/>
          <p:nvPr/>
        </p:nvSpPr>
        <p:spPr>
          <a:xfrm>
            <a:off x="2193840" y="2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033280" y="270000"/>
            <a:ext cx="716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Another name for the fourth principal part of a verb 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___________________, and it functions as a(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___________________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047680" y="1523880"/>
            <a:ext cx="686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Participles can/cannot function by themselves as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 verb of a senten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111400" y="2403360"/>
            <a:ext cx="598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3. A participle can modify what part of speech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63280" y="3089160"/>
            <a:ext cx="524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Translate the following senten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Abadi MT Condensed Light"/>
              </a:rPr>
              <a:t>Vir ducens animalia Hannibal e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89360" y="4876920"/>
            <a:ext cx="45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/are the object(s) of </a:t>
            </a:r>
            <a:r>
              <a:rPr b="0" i="1" lang="en-US" sz="2400" spc="-1" strike="noStrike">
                <a:solidFill>
                  <a:srgbClr val="00ff99"/>
                </a:solidFill>
                <a:latin typeface="Times New Roman"/>
              </a:rPr>
              <a:t>ducen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90920" y="5335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163240" y="709560"/>
            <a:ext cx="352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perfect passive participl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030040" y="99072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adjec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730680" y="1523880"/>
            <a:ext cx="14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CANN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029200" y="26668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a noun or prono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390760" y="4003560"/>
            <a:ext cx="622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The man leading the animals is Hannib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182040" y="5410080"/>
            <a:ext cx="5036040" cy="82548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Palatino"/>
              </a:rPr>
              <a:t>Animalia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 is not the object of </a:t>
            </a:r>
            <a:r>
              <a:rPr b="0" lang="en-US" sz="2400" spc="-1" strike="noStrike">
                <a:solidFill>
                  <a:srgbClr val="00ff99"/>
                </a:solidFill>
                <a:latin typeface="Palatino"/>
              </a:rPr>
              <a:t>est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!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It is the object of </a:t>
            </a:r>
            <a:r>
              <a:rPr b="1" i="1" lang="en-US" sz="2400" spc="-1" strike="noStrike">
                <a:solidFill>
                  <a:srgbClr val="ffffff"/>
                </a:solidFill>
                <a:latin typeface="Palatino"/>
              </a:rPr>
              <a:t>ducens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ru"/>
  </p:transition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0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5000"/>
                            </p:stCondLst>
                            <p:childTnLst>
                              <p:par>
                                <p:cTn id="85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3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1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Practice Sentenc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ff"/>
                </a:solidFill>
                <a:latin typeface="Arial"/>
              </a:rPr>
              <a:t>Senex, multas iniurias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assus</a:t>
            </a:r>
            <a:r>
              <a:rPr b="1" lang="en-US" sz="2400" spc="-1" strike="noStrike">
                <a:solidFill>
                  <a:srgbClr val="00ccff"/>
                </a:solidFill>
                <a:latin typeface="Arial"/>
              </a:rPr>
              <a:t>, auxilium petivit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4000" y="3276720"/>
            <a:ext cx="43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 amicis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ncitatu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certavit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66360" y="4687920"/>
            <a:ext cx="59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99"/>
                </a:solidFill>
                <a:latin typeface="Arial"/>
              </a:rPr>
              <a:t>Anulum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nventum</a:t>
            </a:r>
            <a:r>
              <a:rPr b="1" lang="en-US" sz="2400" spc="-1" strike="noStrike">
                <a:solidFill>
                  <a:srgbClr val="00ff99"/>
                </a:solidFill>
                <a:latin typeface="Arial"/>
              </a:rPr>
              <a:t> ad dominum tulimu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57880" y="2655720"/>
            <a:ext cx="84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Palatino"/>
              </a:rPr>
              <a:t>The old man, having suffered many injuries, sought hel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085760" y="3875040"/>
            <a:ext cx="606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Palatino"/>
              </a:rPr>
              <a:t>Encouraged by his friends, he compe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076400" y="5322960"/>
            <a:ext cx="82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Palatino"/>
              </a:rPr>
              <a:t>When the ring had been found, we took it to the mast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236960" y="5772240"/>
            <a:ext cx="58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(We took the ring having been found to the master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7467480" y="3276720"/>
          <a:ext cx="965160" cy="7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3276720"/>
                    <a:ext cx="96516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d"/>
  </p:transition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0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1000"/>
                            </p:stCondLst>
                            <p:childTnLst>
                              <p:par>
                                <p:cTn id="924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2500"/>
                            </p:stCondLst>
                            <p:childTnLst>
                              <p:par>
                                <p:cTn id="9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4000"/>
                            </p:stCondLst>
                            <p:childTnLst>
                              <p:par>
                                <p:cTn id="932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6500"/>
                            </p:stCondLst>
                            <p:childTnLst>
                              <p:par>
                                <p:cTn id="937" nodeType="afterEffect" fill="hold" presetClass="entr" presetID="2" presetSubtype="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1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985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bcbcb"/>
                </a:solidFill>
                <a:latin typeface="Comic Sans MS"/>
              </a:rPr>
              <a:t>ANY QUESTIONS?</a:t>
            </a:r>
            <a:endParaRPr b="0" lang="en-US" sz="8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85800" y="990720"/>
            <a:ext cx="1628640" cy="49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RESENT ACTIVE</a:t>
            </a:r>
            <a:endParaRPr b="0" lang="en-US" sz="20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553080" y="1066680"/>
            <a:ext cx="1600200" cy="38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PERFECT ACTIVE</a:t>
            </a:r>
            <a:endParaRPr b="0" lang="en-US" sz="20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85800" y="5486400"/>
            <a:ext cx="2057400" cy="4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Palatino"/>
              </a:rPr>
              <a:t>FUTURE ACTIVE</a:t>
            </a:r>
            <a:endParaRPr b="0" lang="en-US" sz="20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Palatino"/>
              <a:ea typeface="Palatino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553080" y="5562720"/>
            <a:ext cx="189396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cap="sq"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FUTURE PASSIVE</a:t>
            </a:r>
            <a:endParaRPr b="0" lang="en-US" sz="2000" spc="1" strike="noStrike">
              <a:ln cap="sq"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0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97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3500"/>
                            </p:stCondLst>
                            <p:childTnLst>
                              <p:par>
                                <p:cTn id="1002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07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6500"/>
                            </p:stCondLst>
                            <p:childTnLst>
                              <p:par>
                                <p:cTn id="1012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Defini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ticipl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is that form of the verb which is used like an adjectiv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nce it is a verb, it has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tens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voic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 It can take a direct object, an indirect object, etc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nce it is an adjective, it has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as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umb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and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end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and it will modify a noun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75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75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orma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fec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utu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5867280"/>
            <a:ext cx="7238880" cy="9907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esent active participles are declined like third declension adjectives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ile perfect passive, future active and passive participles a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clined like first/second declension adjectiv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581280" y="1600200"/>
            <a:ext cx="90504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Active</a:t>
            </a:r>
            <a:endParaRPr b="0" lang="en-US" sz="20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400800" y="1600200"/>
            <a:ext cx="110484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Passive</a:t>
            </a:r>
            <a:endParaRPr b="0" lang="en-US" sz="20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5" name=""/>
          <p:cNvSpPr/>
          <p:nvPr/>
        </p:nvSpPr>
        <p:spPr>
          <a:xfrm>
            <a:off x="2950200" y="2529000"/>
            <a:ext cx="228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nd pp - re + ns, nt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88760" y="2909880"/>
            <a:ext cx="94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x-ing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05000" y="3581280"/>
            <a:ext cx="82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th p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4560" y="3962520"/>
            <a:ext cx="21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aving been x-ed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96480" y="4738680"/>
            <a:ext cx="261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th pp - us +urus, a, 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4920" y="502920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bout to x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88320" y="4724280"/>
            <a:ext cx="274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nd pp - re + ndus, a, 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8280" y="5029200"/>
            <a:ext cx="172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st be x-ed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75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75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75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75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Third -io and Fourth Conjugation Verbs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careful when forming the present active and future passive participles for 3rd -io and 4th conjugation verbs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op the </a:t>
            </a:r>
            <a:r>
              <a:rPr b="0" i="1" lang="en-US" sz="3200" spc="-1" strike="noStrike">
                <a:solidFill>
                  <a:srgbClr val="ff7c80"/>
                </a:solidFill>
                <a:latin typeface="Arial"/>
              </a:rPr>
              <a:t>entir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finitive ending (ire/ere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 -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i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dd the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-ns, -nt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r  -</a:t>
            </a: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ndus, a, u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resent Active Participl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nd pp - re + ns, nt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rvo, servare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    drop the “re”, add -ns, -nti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erva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erva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erva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erva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erva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erva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b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erva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m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erva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erva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erva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b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5714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9000"/>
          </a:bodyPr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call that for the third declension, you must go to the </a:t>
            </a:r>
            <a:r>
              <a:rPr b="1" lang="en-US" sz="2800" spc="-1" strike="noStrike">
                <a:solidFill>
                  <a:srgbClr val="ff66cc"/>
                </a:solidFill>
                <a:latin typeface="Arial"/>
              </a:rPr>
              <a:t>genitiv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to get the stem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5105520"/>
            <a:ext cx="7772400" cy="533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se are the endings for the masculine and feminine forms of the adjectiv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r the neuter forms, use the third declension neuter ending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resent Active Participl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nd pp - re + ns, nt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rvo, servare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    drop the “re”, add -ns, -nti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erva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erva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erva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erva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u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erva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erva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b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erva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erva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erva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erva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b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" y="5714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9000"/>
          </a:bodyPr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call that for the third declension, you must go to the </a:t>
            </a:r>
            <a:r>
              <a:rPr b="1" lang="en-US" sz="2800" spc="-1" strike="noStrike">
                <a:solidFill>
                  <a:srgbClr val="ff66cc"/>
                </a:solidFill>
                <a:latin typeface="Arial"/>
              </a:rPr>
              <a:t>genitiv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to get the stem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5105520"/>
            <a:ext cx="7772400" cy="533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se are the endings for the neuter forms of the adjectiv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erfect Passive Participl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th p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rvo, servare, servavi, servat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vatus, a, um            servati, ae, 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vati, ae, i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vatorum, arum, oru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vato, ae, 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vatis, is, 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vatum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am, um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vatos, as, 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vato, a, 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vatis, is, 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901160" y="5721480"/>
            <a:ext cx="308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Univers (WL)"/>
              </a:rPr>
              <a:t>“</a:t>
            </a:r>
            <a:r>
              <a:rPr b="0" lang="en-US" sz="2400" spc="-1" strike="noStrike">
                <a:solidFill>
                  <a:srgbClr val="ffff00"/>
                </a:solidFill>
                <a:latin typeface="Univers (WL)"/>
              </a:rPr>
              <a:t>having been saved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133720" y="228600"/>
            <a:ext cx="549576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eclined like a 1st/2nd declension adjective</a:t>
            </a:r>
            <a:endParaRPr b="0" lang="en-US" sz="24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hecker dir="horz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ture Active Participl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th pp - us + urus, a, u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rvo, servare, servavi, servat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vaturus, a, um        servaturi, ae, 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vaturi, ae, i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vaturorum, arum, oru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vaturo, ae, 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vaturis, is, 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vaturum, am, um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vaturos, as, 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vaturo, a, 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vaturis, is, 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28520" y="5721480"/>
            <a:ext cx="23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Univers (WL)"/>
              </a:rPr>
              <a:t>“</a:t>
            </a:r>
            <a:r>
              <a:rPr b="0" lang="en-US" sz="2400" spc="-1" strike="noStrike">
                <a:solidFill>
                  <a:srgbClr val="ffff00"/>
                </a:solidFill>
                <a:latin typeface="Univers (WL)"/>
              </a:rPr>
              <a:t>about to sav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54440" y="5683320"/>
            <a:ext cx="448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Westminster"/>
              </a:rPr>
              <a:t>Declined</a:t>
            </a:r>
            <a:r>
              <a:rPr b="0" lang="en-US" sz="2400" spc="-1" strike="noStrike">
                <a:solidFill>
                  <a:srgbClr val="006600"/>
                </a:solidFill>
                <a:latin typeface="Westminster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Westminster"/>
              </a:rPr>
              <a:t>like a 1st/2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Westminster"/>
              </a:rPr>
              <a:t>declension adj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75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75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75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75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75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75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75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75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75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75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75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75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75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75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3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3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3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3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ture Passive Participl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nd pp - re + ndus, a, u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rvo, servare, servavi, servat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vandus, a, um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vandi, ae, 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vandi, ae, i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vandorum, arum, oru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vando, ae, 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vandis, is, 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vandum, am, um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vandos, as, 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vando, a, 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vandis, is, 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21320" y="57214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Univers (WL)"/>
              </a:rPr>
              <a:t>“</a:t>
            </a:r>
            <a:r>
              <a:rPr b="0" lang="en-US" sz="2400" spc="-1" strike="noStrike">
                <a:solidFill>
                  <a:srgbClr val="ffff00"/>
                </a:solidFill>
                <a:latin typeface="Univers (WL)"/>
              </a:rPr>
              <a:t>must be saved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3720000">
            <a:off x="990360" y="3091680"/>
            <a:ext cx="594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lbertus Extra Bold (W1)"/>
              </a:rPr>
              <a:t> </a:t>
            </a:r>
            <a:r>
              <a:rPr b="0" lang="en-US" sz="2200" spc="-1" strike="noStrike">
                <a:solidFill>
                  <a:srgbClr val="ff3300"/>
                </a:solidFill>
                <a:latin typeface="Albertus Extra Bold (W1)"/>
              </a:rPr>
              <a:t>Declined like a 1st/2nd declension adjectiv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2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5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8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1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4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7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2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75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75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4T00:08:06Z</dcterms:created>
  <dc:creator>Bel Air High School</dc:creator>
  <dc:description/>
  <dc:language>en-US</dc:language>
  <cp:lastModifiedBy>William H. Snyder, Jr.</cp:lastModifiedBy>
  <dcterms:modified xsi:type="dcterms:W3CDTF">2007-01-15T19:01:27Z</dcterms:modified>
  <cp:revision>54</cp:revision>
  <dc:subject/>
  <dc:title>Participles</dc:title>
</cp:coreProperties>
</file>